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30A55-A394-479F-9E1B-C20E5EE0A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E0B39-9CB6-46A5-8CAB-0D2E7122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24560-199D-4545-ADA2-D040E395C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B376-467C-4F00-9065-343537ED4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58F86-47AA-49F7-A4B9-AD93D2CB2D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1C79A-03A6-4D41-BE45-E2BB8E9CD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4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F2085-8070-4EAF-937E-27891EF5E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354C3-F4D6-4068-90A0-B6B1C911D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E5ABF-B26F-4A83-B071-A63285C85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B0D3B-8C3A-4E29-AEF0-E8363CB70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DCDD3-8A46-4FCC-95AA-A4E6E00F2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 name="PlaceHolder 2"/>
          <p:cNvSpPr>
            <a:spLocks noGrp="1"/>
          </p:cNvSpPr>
          <p:nvPr>
            <p:ph type="subTitle"/>
          </p:nvPr>
        </p:nvSpPr>
        <p:spPr>
          <a:xfrm>
            <a:off x="837720" y="1371240"/>
            <a:ext cx="7543800" cy="472428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5393B-3527-4DC3-89FD-D64CF1AFA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5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83668-02C9-4CE2-B832-2B9BDDDEB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336BA-4E44-43B3-848A-26298E6A5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67" name="PlaceHolder 2"/>
          <p:cNvSpPr>
            <a:spLocks noGrp="1"/>
          </p:cNvSpPr>
          <p:nvPr>
            <p:ph/>
          </p:nvPr>
        </p:nvSpPr>
        <p:spPr>
          <a:xfrm>
            <a:off x="837720" y="13712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6A954-92D9-49CC-B3A9-2B735A2AB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0"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E5F85-2BFB-4B19-901C-1E0E24FE9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75" name="PlaceHolder 2"/>
          <p:cNvSpPr>
            <a:spLocks noGrp="1"/>
          </p:cNvSpPr>
          <p:nvPr>
            <p:ph/>
          </p:nvPr>
        </p:nvSpPr>
        <p:spPr>
          <a:xfrm>
            <a:off x="8377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38832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939280" y="13712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8377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38832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939280" y="3839040"/>
            <a:ext cx="242892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EA852-B0ED-4AB3-BE0D-0D1A22AE6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0A164-EF72-4458-B4A9-FFF51FED6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7A6ED-28F0-4A4B-B513-BAE460B21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CEAA-6E28-4239-9148-D21F9340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7720" y="380520"/>
            <a:ext cx="7543800" cy="353412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6C5D-D538-44F8-B5C9-1C00A7A21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5"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340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1351D-F1F8-46BD-8BD8-AE78C937A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9" name="PlaceHolder 2"/>
          <p:cNvSpPr>
            <a:spLocks noGrp="1"/>
          </p:cNvSpPr>
          <p:nvPr>
            <p:ph/>
          </p:nvPr>
        </p:nvSpPr>
        <p:spPr>
          <a:xfrm>
            <a:off x="837720" y="1371240"/>
            <a:ext cx="368136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3400" y="38390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82E15-B596-4D12-9461-33F4B9C9A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23" name="PlaceHolder 2"/>
          <p:cNvSpPr>
            <a:spLocks noGrp="1"/>
          </p:cNvSpPr>
          <p:nvPr>
            <p:ph/>
          </p:nvPr>
        </p:nvSpPr>
        <p:spPr>
          <a:xfrm>
            <a:off x="83772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3400" y="1371240"/>
            <a:ext cx="368136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3839040"/>
            <a:ext cx="7543800" cy="225324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0E27-5DEA-4C5C-AF17-8167A7783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Click to edit the title text format</a:t>
            </a:r>
            <a:endParaRPr b="0" lang="en-US" sz="4200" spc="-1" strike="noStrike">
              <a:solidFill>
                <a:srgbClr val="d3bdbd"/>
              </a:solidFill>
              <a:latin typeface="Arial"/>
            </a:endParaRPr>
          </a:p>
        </p:txBody>
      </p:sp>
      <p:sp>
        <p:nvSpPr>
          <p:cNvPr id="1" name="PlaceHolder 2"/>
          <p:cNvSpPr>
            <a:spLocks noGrp="1"/>
          </p:cNvSpPr>
          <p:nvPr>
            <p:ph type="body"/>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476760" y="640080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3AAB-A936-4CCB-B2F1-BA06EC272C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981080"/>
            <a:ext cx="655344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bdbd"/>
                </a:solidFill>
                <a:latin typeface="Arial"/>
              </a:rPr>
              <a:t>Click to edit the title text format</a:t>
            </a:r>
            <a:endParaRPr b="0" lang="en-US" sz="4000" spc="-1" strike="noStrike">
              <a:solidFill>
                <a:srgbClr val="d3bdbd"/>
              </a:solidFill>
              <a:latin typeface="Arial"/>
            </a:endParaRPr>
          </a:p>
        </p:txBody>
      </p:sp>
      <p:sp>
        <p:nvSpPr>
          <p:cNvPr id="42" name="PlaceHolder 2"/>
          <p:cNvSpPr>
            <a:spLocks noGrp="1"/>
          </p:cNvSpPr>
          <p:nvPr>
            <p:ph type="dt" idx="4"/>
          </p:nvPr>
        </p:nvSpPr>
        <p:spPr>
          <a:xfrm>
            <a:off x="8380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50496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CA0E-17E2-487F-83A7-70BB24896B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scalise/apparatus/caliper/tutorial/"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Density</a:t>
            </a:r>
            <a:endParaRPr b="0" lang="en-US" sz="4200" spc="-1" strike="noStrike">
              <a:solidFill>
                <a:srgbClr val="d3bdbd"/>
              </a:solidFill>
              <a:latin typeface="Arial"/>
            </a:endParaRPr>
          </a:p>
        </p:txBody>
      </p:sp>
      <p:sp>
        <p:nvSpPr>
          <p:cNvPr id="8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ineral sample with a mass of 65.4 g and a volume of 29.8 cm</a:t>
            </a:r>
            <a:r>
              <a:rPr b="0" lang="en-US" sz="3200" spc="-1" strike="noStrike" baseline="30000">
                <a:solidFill>
                  <a:srgbClr val="ffffff"/>
                </a:solidFill>
                <a:latin typeface="Arial"/>
              </a:rPr>
              <a:t>3</a:t>
            </a:r>
            <a:r>
              <a:rPr b="0" lang="en-US" sz="3200" spc="-1" strike="noStrike">
                <a:solidFill>
                  <a:srgbClr val="ffffff"/>
                </a:solidFill>
                <a:latin typeface="Arial"/>
              </a:rPr>
              <a:t> sinks in water.  What is the volume of the water that it displ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Equipment</a:t>
            </a:r>
            <a:endParaRPr b="0" lang="en-US" sz="4200" spc="-1" strike="noStrike">
              <a:solidFill>
                <a:srgbClr val="d3bdbd"/>
              </a:solidFill>
              <a:latin typeface="Arial"/>
            </a:endParaRPr>
          </a:p>
        </p:txBody>
      </p:sp>
      <p:sp>
        <p:nvSpPr>
          <p:cNvPr id="100"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use calipers</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e9090"/>
                </a:solidFill>
                <a:uFillTx/>
                <a:latin typeface="Arial"/>
                <a:hlinkClick r:id="rId2"/>
              </a:rPr>
              <a:t>http://www.physics.smu.edu/~scalise/apparatus/caliper/tutorial/</a:t>
            </a:r>
            <a:endParaRPr b="0" lang="en-US" sz="24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is online caliper, read where the zero lands to figure out tens and ones places.  The one tenths place is determined by which lines are closest to each other.  NO ESTIMATING.</a:t>
            </a:r>
            <a:endParaRPr b="0" lang="en-US" sz="24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out balances:</a:t>
            </a:r>
            <a:endParaRPr b="0" lang="en-US" sz="2800" spc="-1" strike="noStrike">
              <a:solidFill>
                <a:srgbClr val="ffffff"/>
              </a:solidFill>
              <a:latin typeface="Arial"/>
            </a:endParaRPr>
          </a:p>
          <a:p>
            <a:pPr lvl="1" marL="743040" indent="-28584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lectronic balance is just as accurate as a triple beam balance, it’s usually just faster and easier to use, that’s 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Metals Identification Lab</a:t>
            </a:r>
            <a:endParaRPr b="0" lang="en-US" sz="4200" spc="-1" strike="noStrike">
              <a:solidFill>
                <a:srgbClr val="d3bdbd"/>
              </a:solidFill>
              <a:latin typeface="Arial"/>
            </a:endParaRPr>
          </a:p>
        </p:txBody>
      </p:sp>
      <p:sp>
        <p:nvSpPr>
          <p:cNvPr id="10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forget!</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l unit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l all work (“Width of block 1,” “Mass of block 2,” etc.)</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 Figs</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correctly</a:t>
            </a:r>
            <a:endParaRPr b="0" lang="en-US" sz="24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ect sig figs when multiplying/dividing</a:t>
            </a:r>
            <a:endParaRPr b="0" lang="en-US" sz="24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measurements to check your w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d3bdbd"/>
              </a:solidFill>
              <a:latin typeface="Arial"/>
            </a:endParaRPr>
          </a:p>
        </p:txBody>
      </p:sp>
      <p:sp>
        <p:nvSpPr>
          <p:cNvPr id="10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0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Specific Gravity is the density of a substance relative to the density of wat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specific gravity of a substance is 2, it is twice as dense as water.  If the specific gravity is .5, it is half as dense as water, etc.</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the specific gravity of water b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0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gravity is most commonly used by geologists to identify mineral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ecific gravity of a mineral is a constant, known, quantifiable property of that mineral.</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ineral doesn’t have to be 100% pure to get its specific gravity, but if it’s not pure, you can’t compare it to the list of known specific gravities that scientists have drawn up.  </a:t>
            </a:r>
            <a:endParaRPr b="0" lang="en-US" sz="2800" spc="-1" strike="noStrike">
              <a:solidFill>
                <a:srgbClr val="ffffff"/>
              </a:solidFill>
              <a:latin typeface="Arial"/>
            </a:endParaRPr>
          </a:p>
          <a:p>
            <a:pPr lvl="2" marL="1143000" indent="-228600">
              <a:lnSpc>
                <a:spcPct val="90000"/>
              </a:lnSpc>
              <a:spcBef>
                <a:spcPts val="601"/>
              </a:spcBef>
              <a:buClr>
                <a:srgbClr val="fffff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10"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find specific gravity, you don’t actually have to find the densities of the mineral and the water.</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because you don’t have to worry about volume at all…</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ut a rock in water, how much water is displac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1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the volume of the mineral and of the water that it displaces are bound to be the same, the only thing we need to check out in order to figure out the relationship between their densities is their mass.</a:t>
            </a:r>
            <a:endParaRPr b="0" lang="en-US" sz="32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than calculate (Density of mineral)/(Density of water), a.k.a. ((mass of mineral/volume of mineral)/(mass of water/volume of water)) we can do something simpl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Specific Gravity</a:t>
            </a:r>
            <a:endParaRPr b="0" lang="en-US" sz="4200" spc="-1" strike="noStrike">
              <a:solidFill>
                <a:srgbClr val="d3bdbd"/>
              </a:solidFill>
              <a:latin typeface="Arial"/>
            </a:endParaRPr>
          </a:p>
        </p:txBody>
      </p:sp>
      <p:sp>
        <p:nvSpPr>
          <p:cNvPr id="11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y this down.  Specific Gravity = </a:t>
            </a:r>
            <a:endParaRPr b="0" lang="en-US" sz="32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Mass of Sample in Air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ss of Sample in Air - Weight of Sample in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Homework</a:t>
            </a:r>
            <a:endParaRPr b="0" lang="en-US" sz="4200" spc="-1" strike="noStrike">
              <a:solidFill>
                <a:srgbClr val="d3bdbd"/>
              </a:solidFill>
              <a:latin typeface="Arial"/>
            </a:endParaRPr>
          </a:p>
        </p:txBody>
      </p:sp>
      <p:sp>
        <p:nvSpPr>
          <p:cNvPr id="8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soon on:</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s, Observations, Theories, Laws, Predictions, and Hypothes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sity</a:t>
            </a:r>
            <a:endParaRPr b="0" lang="en-US" sz="28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Gravity</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Objectives</a:t>
            </a:r>
            <a:endParaRPr b="0" lang="en-US" sz="4200" spc="-1" strike="noStrike">
              <a:solidFill>
                <a:srgbClr val="d3bdbd"/>
              </a:solidFill>
              <a:latin typeface="Arial"/>
            </a:endParaRPr>
          </a:p>
        </p:txBody>
      </p:sp>
      <p:sp>
        <p:nvSpPr>
          <p:cNvPr id="8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more comfortable with using the density equation to solve for missing values</a:t>
            </a: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more comfortable correctly using common lab equipment: balances, calip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8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ass?</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structure of an atom determine its mas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volume?</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the structure of an atom determine its total volu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0"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be a good 1-2 sentences explaining how density works in terms of ato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2"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erms of atoms and what they’re doing:</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a solid, a liquid, and a 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4"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erms of atoms and what they’re doing:</a:t>
            </a:r>
            <a:endParaRPr b="0" lang="en-US" sz="32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a solid, a liquid, and a gas?</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olid = Molecules are vibrating in place.</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Liquid = Molecules are not staying in fixed positions compared to each other, are moving quickly but are still in close proximity.</a:t>
            </a:r>
            <a:endParaRPr b="0" lang="en-US" sz="2800" spc="-1" strike="noStrike">
              <a:solidFill>
                <a:srgbClr val="ffffff"/>
              </a:solidFill>
              <a:latin typeface="Arial"/>
            </a:endParaRPr>
          </a:p>
          <a:p>
            <a:pPr lvl="1" marL="743040" indent="-28584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as = Molecules are moving quickly and are well separated from each oth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6"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densest?  And wh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least dense?  W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80520"/>
            <a:ext cx="7543800" cy="7621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3bdbd"/>
                </a:solidFill>
                <a:latin typeface="Arial"/>
              </a:rPr>
              <a:t>Atomic Structure</a:t>
            </a:r>
            <a:endParaRPr b="0" lang="en-US" sz="4200" spc="-1" strike="noStrike">
              <a:solidFill>
                <a:srgbClr val="d3bdbd"/>
              </a:solidFill>
              <a:latin typeface="Arial"/>
            </a:endParaRPr>
          </a:p>
        </p:txBody>
      </p:sp>
      <p:sp>
        <p:nvSpPr>
          <p:cNvPr id="98" name="PlaceHolder 2"/>
          <p:cNvSpPr>
            <a:spLocks noGrp="1"/>
          </p:cNvSpPr>
          <p:nvPr>
            <p:ph/>
          </p:nvPr>
        </p:nvSpPr>
        <p:spPr>
          <a:xfrm>
            <a:off x="837720" y="1371240"/>
            <a:ext cx="7543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densest?  And why?</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Solids = usually densest.</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se states is </a:t>
            </a:r>
            <a:r>
              <a:rPr b="0" i="1" lang="en-US" sz="3200" spc="-1" strike="noStrike">
                <a:solidFill>
                  <a:srgbClr val="ffffff"/>
                </a:solidFill>
                <a:latin typeface="Arial"/>
              </a:rPr>
              <a:t>usually</a:t>
            </a:r>
            <a:r>
              <a:rPr b="0" lang="en-US" sz="3200" spc="-1" strike="noStrike">
                <a:solidFill>
                  <a:srgbClr val="ffffff"/>
                </a:solidFill>
                <a:latin typeface="Arial"/>
              </a:rPr>
              <a:t> least dense?  Why?</a:t>
            </a:r>
            <a:endParaRPr b="0" lang="en-US" sz="3200" spc="-1" strike="noStrike">
              <a:solidFill>
                <a:srgbClr val="ffffff"/>
              </a:solidFill>
              <a:latin typeface="Arial"/>
            </a:endParaRPr>
          </a:p>
          <a:p>
            <a:pPr lvl="1" marL="743040" indent="-2858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ases = usually least d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6:00:04Z</dcterms:created>
  <dc:creator>Rebecca Stang</dc:creator>
  <dc:description/>
  <dc:language>en-US</dc:language>
  <cp:lastModifiedBy>Rebecca Stang</cp:lastModifiedBy>
  <dcterms:modified xsi:type="dcterms:W3CDTF">2009-11-14T16:43:11Z</dcterms:modified>
  <cp:revision>52</cp:revision>
  <dc:subject/>
  <dc:title>PowerPoint Presentation</dc:title>
</cp:coreProperties>
</file>